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8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593-0008-434F-93A1-020B46C9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143-E51C-41D6-82E0-FBC344CF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FD39-DA6F-432B-BA15-E938445E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2D35-37B4-436D-8304-14C4FACC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EB33-807B-46CF-84E6-3198F8D6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2DA1-D169-42CF-909C-22629363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019B-8181-4CC1-9EB3-6840B26E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418C-24B4-40C8-9B89-5AE9A4DF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1DE1-A7F2-4AA8-AAF4-77B80FFF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293A-23A1-4D0A-91F4-CBA3AEFC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0902-D6DF-4CAD-9B41-9143A587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E5A-4E2C-4E75-8F13-CDC80CAB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9C34-DFD1-41D5-A07B-EA1B9ACB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9B93-AF81-4480-9188-D1E4D45E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635E-938E-4360-B912-DD319010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E9C8-4AE3-429E-9D2B-BC8CBE58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8C9F-99A0-4FA0-A3DB-9A6D2DD7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A9C3-3C3B-4DB4-BF94-A17EA4C7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6DFA-D76A-45B7-B5E8-E84F1861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B41F-A655-4BF2-AAD7-7D26265D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F31C-4C03-422A-B2E7-B33AF086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5E3-3121-491D-B9AA-765FB14C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B91D-EE08-4E2C-AA14-723A5B41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C3CD-C53E-408D-895D-AEA7C359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D4A6-3332-422C-BA54-3F6815BF1BC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1AD8-860E-4211-BE0F-1BCF86E6668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476360" y="3071520"/>
            <a:ext cx="6400800" cy="18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ай шифров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56r4"/>
          <p:cNvPicPr/>
          <p:nvPr/>
        </p:nvPicPr>
        <p:blipFill>
          <a:blip r:embed="rId1"/>
          <a:stretch/>
        </p:blipFill>
        <p:spPr>
          <a:xfrm>
            <a:off x="4071960" y="47862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9"/>
          <p:cNvSpPr txBox="1"/>
          <p:nvPr/>
        </p:nvSpPr>
        <p:spPr>
          <a:xfrm>
            <a:off x="857160" y="549360"/>
            <a:ext cx="7715520" cy="18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картова система координат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3" name="Picture 3" descr="C:\Documents and Settings\мама\Мои документы\Мои результаты сканировани\2010-01 (янв)\сканирование0014.jpg"/>
          <p:cNvPicPr/>
          <p:nvPr/>
        </p:nvPicPr>
        <p:blipFill>
          <a:blip r:embed="rId1"/>
          <a:stretch/>
        </p:blipFill>
        <p:spPr>
          <a:xfrm>
            <a:off x="1143000" y="2000160"/>
            <a:ext cx="7215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Picture 5" descr="C:\Documents and Settings\мама\Мои документы\Мои результаты сканировани\2010-01 (янв)\сканирование0007.jpg"/>
          <p:cNvPicPr/>
          <p:nvPr/>
        </p:nvPicPr>
        <p:blipFill>
          <a:blip r:embed="rId1"/>
          <a:stretch/>
        </p:blipFill>
        <p:spPr>
          <a:xfrm>
            <a:off x="1285920" y="2071800"/>
            <a:ext cx="638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7" name="Picture 3" descr="C:\Documents and Settings\мама\Мои документы\Мои результаты сканировани\2010-01 (янв)\сканирование0002.jpg"/>
          <p:cNvPicPr/>
          <p:nvPr/>
        </p:nvPicPr>
        <p:blipFill>
          <a:blip r:embed="rId1"/>
          <a:stretch/>
        </p:blipFill>
        <p:spPr>
          <a:xfrm>
            <a:off x="1357200" y="2214720"/>
            <a:ext cx="609444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9" name="Picture 4" descr="C:\Documents and Settings\мама\Мои документы\Мои результаты сканировани\2010-01 (янв)\сканирование0006.jpg"/>
          <p:cNvPicPr/>
          <p:nvPr/>
        </p:nvPicPr>
        <p:blipFill>
          <a:blip r:embed="rId1"/>
          <a:stretch/>
        </p:blipFill>
        <p:spPr>
          <a:xfrm>
            <a:off x="1357200" y="1928880"/>
            <a:ext cx="51944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3" descr="C:\Documents and Settings\мама\Мои документы\Мои результаты сканировани\2010-01 (янв)\сканирование0009.jpg"/>
          <p:cNvPicPr/>
          <p:nvPr/>
        </p:nvPicPr>
        <p:blipFill>
          <a:blip r:embed="rId1"/>
          <a:stretch/>
        </p:blipFill>
        <p:spPr>
          <a:xfrm>
            <a:off x="285840" y="1785960"/>
            <a:ext cx="84978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3" name="Picture 2" descr="C:\Documents and Settings\мама\Мои документы\Мои результаты сканировани\2010-01 (янв)\сканирование0004.jpg"/>
          <p:cNvPicPr/>
          <p:nvPr/>
        </p:nvPicPr>
        <p:blipFill>
          <a:blip r:embed="rId1"/>
          <a:stretch/>
        </p:blipFill>
        <p:spPr>
          <a:xfrm>
            <a:off x="1714680" y="2428920"/>
            <a:ext cx="52876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Picture 2" descr="C:\Documents and Settings\мама\Мои документы\Мои результаты сканировани\2010-01 (янв)\сканирование0008.jpg"/>
          <p:cNvPicPr/>
          <p:nvPr/>
        </p:nvPicPr>
        <p:blipFill>
          <a:blip r:embed="rId1"/>
          <a:stretch/>
        </p:blipFill>
        <p:spPr>
          <a:xfrm>
            <a:off x="1714680" y="1928880"/>
            <a:ext cx="528624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7" name="Picture 2" descr="C:\Documents and Settings\мама\Мои документы\Мои результаты сканировани\2010-01 (янв)\сканирование0013.jpg"/>
          <p:cNvPicPr/>
          <p:nvPr/>
        </p:nvPicPr>
        <p:blipFill>
          <a:blip r:embed="rId1"/>
          <a:stretch/>
        </p:blipFill>
        <p:spPr>
          <a:xfrm>
            <a:off x="2000160" y="2071800"/>
            <a:ext cx="4429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2" descr="C:\Documents and Settings\мама\Мои документы\Мои результаты сканировани\2010-01 (янв)\сканирование0011.jpg"/>
          <p:cNvPicPr/>
          <p:nvPr/>
        </p:nvPicPr>
        <p:blipFill>
          <a:blip r:embed="rId1"/>
          <a:stretch/>
        </p:blipFill>
        <p:spPr>
          <a:xfrm>
            <a:off x="1714680" y="2286000"/>
            <a:ext cx="4836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980640"/>
            <a:ext cx="7543800" cy="419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Пока мы делали этот проект, мы узнали, что такое система координат, оси координат, как находить точку по координатам. А самое главное – мы научились рисовать с помощью координат, это нам показалось очень интересным, увлекательным. 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1" name="Picture 8" descr="AG00011_"/>
          <p:cNvPicPr/>
          <p:nvPr/>
        </p:nvPicPr>
        <p:blipFill>
          <a:blip r:embed="rId1"/>
          <a:stretch/>
        </p:blipFill>
        <p:spPr>
          <a:xfrm>
            <a:off x="8001000" y="4727520"/>
            <a:ext cx="18860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4800" spc="-1" strike="noStrike">
                <a:solidFill>
                  <a:srgbClr val="ffffff"/>
                </a:solidFill>
                <a:latin typeface="Tahoma"/>
              </a:rPr>
              <a:t>Можно ли зашифровать рисунок с помощью координатной прямой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6" descr="test"/>
          <p:cNvPicPr/>
          <p:nvPr/>
        </p:nvPicPr>
        <p:blipFill>
          <a:blip r:embed="rId1"/>
          <a:stretch/>
        </p:blipFill>
        <p:spPr>
          <a:xfrm>
            <a:off x="6858000" y="1341360"/>
            <a:ext cx="228600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00" y="304560"/>
            <a:ext cx="8429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ямоугольная система координа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71360" y="1928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Рисунок 2" descr="систкор"/>
          <p:cNvPicPr/>
          <p:nvPr/>
        </p:nvPicPr>
        <p:blipFill>
          <a:blip r:embed="rId1"/>
          <a:stretch/>
        </p:blipFill>
        <p:spPr>
          <a:xfrm>
            <a:off x="1714680" y="1835280"/>
            <a:ext cx="621504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ямоугольная система координа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C:\Documents and Settings\мама\Рабочий стол\Координатная плоскость\Декар сист координат рисунки\точка с координ.jpg"/>
          <p:cNvPicPr/>
          <p:nvPr/>
        </p:nvPicPr>
        <p:blipFill>
          <a:blip r:embed="rId1"/>
          <a:stretch/>
        </p:blipFill>
        <p:spPr>
          <a:xfrm>
            <a:off x="2786040" y="2500200"/>
            <a:ext cx="48387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8400" y="3214440"/>
            <a:ext cx="8429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определения координаты точки А опускаем перпендикуля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ось абсцисс – О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ось ординат – О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ченная пара чисел (2;3) и есть декартовые координат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чки А (2;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Рисунок 1" descr="прим"/>
          <p:cNvPicPr/>
          <p:nvPr/>
        </p:nvPicPr>
        <p:blipFill>
          <a:blip r:embed="rId1"/>
          <a:stretch/>
        </p:blipFill>
        <p:spPr>
          <a:xfrm>
            <a:off x="1000080" y="214200"/>
            <a:ext cx="59292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5438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исунки на координатной плоск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840" y="1213920"/>
            <a:ext cx="8329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оординатной плоскости построить точки по заданным координатам и последовательно соединить их отрезк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;6),  (-4;6),  (-4;0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0;0),   (0;-3),  (-2;-3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2;-2),   (-4;-2),  (-4;-4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3;-5),  (1;-5),  (2;-4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;1),  (1;2),  (-2;2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2;4),  (2;4),  (2;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97"/>
          <p:cNvPicPr/>
          <p:nvPr/>
        </p:nvPicPr>
        <p:blipFill>
          <a:blip r:embed="rId1"/>
          <a:stretch/>
        </p:blipFill>
        <p:spPr>
          <a:xfrm rot="21132000">
            <a:off x="6587640" y="5024160"/>
            <a:ext cx="15051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14560" y="1428840"/>
            <a:ext cx="389556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от такая фигура должна получитс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1" descr="C:\Documents and Settings\мама\Мои документы\Мои результаты сканировани\2010-01 (янв)\сканирование0001.jpg"/>
          <p:cNvPicPr/>
          <p:nvPr/>
        </p:nvPicPr>
        <p:blipFill>
          <a:blip r:embed="rId1"/>
          <a:stretch/>
        </p:blipFill>
        <p:spPr>
          <a:xfrm>
            <a:off x="1357200" y="1143000"/>
            <a:ext cx="28465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 flipH="1">
            <a:off x="8714520" y="642960"/>
            <a:ext cx="7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0"/>
            <a:ext cx="8572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оординатной плоскости построить точки по заданным координатам и последовательно соединить их отрезками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;5),  (8;5),  (9;6),  (9;3),  (8;1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;2),  (7;1),  (1;1),  (1;0), (10;-1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3;0),  (14;3),  (14;1),  (13;-1),  (10;-2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;-3),  (12;-5),  (11;-8 ),  (9;-8),  (10;-6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8;-5),  (8;-7),  (7;-8),  (5;-8),  (6;-7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;-5),  (3;-5), (3;-8), (1;-8),  (0;-5),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1;-7),  (-3;-8),  (-3;3),  (-4;3),  (-4;-3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5;-4),    (-7;-4),  (-7;4),  (-6;6),  (-4;6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4;8),  (-2;9),  (0;9),  (2;7),  (2;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C:\Documents and Settings\мама\Мои документы\Мои результаты сканировани\2010-01 (янв)\сканирование0003.jpg"/>
          <p:cNvPicPr/>
          <p:nvPr/>
        </p:nvPicPr>
        <p:blipFill>
          <a:blip r:embed="rId1"/>
          <a:stretch/>
        </p:blipFill>
        <p:spPr>
          <a:xfrm>
            <a:off x="5072040" y="2000160"/>
            <a:ext cx="3143160" cy="31132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714240" y="1071720"/>
            <a:ext cx="3571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 все правильно и аккуратно выполнили, должен получится такой рисуно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5:42:54Z</dcterms:created>
  <dc:creator>1</dc:creator>
  <dc:description/>
  <dc:language>en-US</dc:language>
  <cp:lastModifiedBy>Nicolai</cp:lastModifiedBy>
  <dcterms:modified xsi:type="dcterms:W3CDTF">2011-06-09T09:06:27Z</dcterms:modified>
  <cp:revision>84</cp:revision>
  <dc:subject/>
  <dc:title>Слайд 1</dc:title>
</cp:coreProperties>
</file>